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7F73-A1E1-4F78-A57B-D062E196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117E-79FB-4508-B2E6-A7455DBA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2929-188E-4139-9362-9A6C7B079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CBC4-86BE-4639-BB14-DD5F342A4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1AE2-D301-4B1A-8B70-7BB16A11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1C05-2DFC-4885-9C9C-E74E290A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9AFE-45D7-4C06-B0D8-B93BF48A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E599-5FAA-422D-87AD-F63FB11B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9941-8855-48A1-992A-41892740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EA9F-95D2-42C0-86BF-110DD6AB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8647-161E-49F5-94B7-01C2F7A6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DBE6-9909-467E-86C0-CBEFD4D9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ECB7-016B-4468-BA0E-3A34EE408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9;&#1072;&#1084;&#1086;&#1083;&#1105;&#1090;.wav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5181480"/>
            <a:ext cx="2057400" cy="1476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3808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2 +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810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3 +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00400" y="228600"/>
            <a:ext cx="259092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5 +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1905120"/>
            <a:ext cx="259092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9 -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3429000"/>
            <a:ext cx="259056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0+3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40384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2 +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3657600"/>
            <a:ext cx="259092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7-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5257800"/>
            <a:ext cx="259056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1 -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228600"/>
            <a:ext cx="259056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7 -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24480" y="17524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8 +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75 0.07014 L 0.57083 -0.28541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917 -0.29652 L 0.04583 -0.29652 E">
                                      <p:cBhvr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-0.29652 L 0.55417 -0.70763 E">
                                      <p:cBhvr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417 -0.70763 L 0.05417 -0.68541 E">
                                      <p:cBhvr>
                                        <p:cTn id="18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6743 L 0.2375 -0.51875 E">
                                      <p:cBhvr>
                                        <p:cTn id="22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583 -0.46319 L 0.5625 -0.04097 E">
                                      <p:cBhvr>
                                        <p:cTn id="2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625 -0.04097 L 0.07083 -0.48541 E">
                                      <p:cBhvr>
                                        <p:cTn id="30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4 -0.48541 L 0.55417 -0.50764 E">
                                      <p:cBhvr>
                                        <p:cTn id="34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4583 -0.55208 L 0.2875 -0.72986 E">
                                      <p:cBhvr>
                                        <p:cTn id="38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084 -0.68542 L 0.52917 -0.29653 E">
                                      <p:cBhvr>
                                        <p:cTn id="42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7:51:38Z</dcterms:created>
  <dc:creator>Шаповаловы</dc:creator>
  <dc:description/>
  <dc:language>en-US</dc:language>
  <cp:lastModifiedBy>ник</cp:lastModifiedBy>
  <dcterms:modified xsi:type="dcterms:W3CDTF">2011-04-06T18:06:5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